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3BE-07DF-4BA0-B857-B2150BC5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141-BC5E-417A-AF99-6AA22532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EEF-B3A6-49CE-BF16-11CA2E90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8C0-CD0F-4E39-8E71-C71E92F2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1A6-192F-4157-88E3-330E72CA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7A8-C7FB-49F2-B128-41BD7CF2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373-EF7E-4191-B805-499DF559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2B5-A597-4B92-9B8F-3217B0AE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684-A739-4DF7-8DC4-AEB8CC5B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110-7F80-4AD0-ACBD-DC248E9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78A-CC70-4092-8426-9FF467EF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EAF-E099-4E7D-84EE-31D59A1C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1517-B327-4EB8-9614-9C4C7EF61E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he 68-95-99.7% Rule and z-scor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z-scor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Calculate z-scores using the formula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where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</a:rPr>
              <a:t>x 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is the score,      is the mean, and s is the standard deviation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 z-score of -1 would mean that the score is one standard deviation below the mean. A score that is one standard deviation above the mean would have a z-score of +1.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1928880" y="2143080"/>
          <a:ext cx="17636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2143080"/>
                    <a:ext cx="1763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4286160" y="3429000"/>
          <a:ext cx="42876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3429000"/>
                    <a:ext cx="428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: 15, 20, 2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Questions: 16, 19, 22, 2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hape of histograms sometimes approximate what is known as a “bell-shape.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5" name="Picture 4" descr="MY Normal distribution histogram.png"/>
          <p:cNvPicPr/>
          <p:nvPr/>
        </p:nvPicPr>
        <p:blipFill>
          <a:blip r:embed="rId1"/>
          <a:stretch/>
        </p:blipFill>
        <p:spPr>
          <a:xfrm>
            <a:off x="1785960" y="3000240"/>
            <a:ext cx="60674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By joining the columns of the histogram together, a bell-shaped curve is formed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When we get data that forms a bell-shape, we call it a </a:t>
            </a:r>
            <a:r>
              <a:rPr b="0" lang="en-AU" sz="2800" spc="-1" strike="noStrike">
                <a:solidFill>
                  <a:srgbClr val="ff0000"/>
                </a:solidFill>
                <a:latin typeface="Cambria"/>
              </a:rPr>
              <a:t>normal distribution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wo important things to remember about normal distributions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The mean of the data,     , is at the centre of the bell-curv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Most of the data is gathered close to the mean. The further we go from the mean the less data there 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4143240" y="4429080"/>
          <a:ext cx="36684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4429080"/>
                    <a:ext cx="3668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68-95-99.7%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ecall that standard deviation, s, is a measure of the spread of the data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 a normal distribution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68% of data have values within 1 standard deviation of the mea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Picture 3" descr="68%.png"/>
          <p:cNvPicPr/>
          <p:nvPr/>
        </p:nvPicPr>
        <p:blipFill>
          <a:blip r:embed="rId1"/>
          <a:stretch/>
        </p:blipFill>
        <p:spPr>
          <a:xfrm>
            <a:off x="1143000" y="4143240"/>
            <a:ext cx="66610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68-95-99.7%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95% of the data have values within 2 standard deviations of the mea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" name="Picture 4" descr="95%.png"/>
          <p:cNvPicPr/>
          <p:nvPr/>
        </p:nvPicPr>
        <p:blipFill>
          <a:blip r:embed="rId1"/>
          <a:stretch/>
        </p:blipFill>
        <p:spPr>
          <a:xfrm>
            <a:off x="1285920" y="2857680"/>
            <a:ext cx="66420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68-95-99.7%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99.7% of the data have values within 3 standard deviations of the mea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Picture 4" descr="99.7%.png"/>
          <p:cNvPicPr/>
          <p:nvPr/>
        </p:nvPicPr>
        <p:blipFill>
          <a:blip r:embed="rId1"/>
          <a:stretch/>
        </p:blipFill>
        <p:spPr>
          <a:xfrm>
            <a:off x="1285920" y="3143160"/>
            <a:ext cx="6640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68-95-99.7%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ing the 68-95-99.7% rule, we can work out the percentage of data in each section of the bell curv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3" descr="68-95-99.7% Diagram.png"/>
          <p:cNvPicPr/>
          <p:nvPr/>
        </p:nvPicPr>
        <p:blipFill>
          <a:blip r:embed="rId1"/>
          <a:stretch/>
        </p:blipFill>
        <p:spPr>
          <a:xfrm>
            <a:off x="857160" y="3357720"/>
            <a:ext cx="675648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 on board 1I, Q. 2, 3, 4, 10, 1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Questions: 5, 7, 9, 11, 1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z-scor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z-score indicates the position of a certain score in a set of data relative to the mean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t enables us to compare scores in different distributio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z-score of zero means that the score is equal to the mean. A negative z-score means that the score is below the mean, and a positive z-score is a score above the mea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5:41:29Z</dcterms:created>
  <dc:creator>08843474</dc:creator>
  <dc:description/>
  <dc:language>en-US</dc:language>
  <cp:lastModifiedBy>08843474</cp:lastModifiedBy>
  <dcterms:modified xsi:type="dcterms:W3CDTF">2011-02-03T23:40:35Z</dcterms:modified>
  <cp:revision>33</cp:revision>
  <dc:subject/>
  <dc:title>The 68-95-99.7% Rule and z-scores</dc:title>
</cp:coreProperties>
</file>